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9C80-DCF3-4DD5-B910-C4B6D8FCD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D374-D5B5-4CA1-BA76-154F32CE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0AF6-4948-4CB7-87A7-001F6BA2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E6B-FCF2-470C-990D-6D8AB5249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1DB9-BBB5-4EC6-BE29-BC3C4E68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D69-42E5-4F1F-A56A-5065C104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32DB-D194-481C-90CC-CF2BE64E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28A-1381-4EA3-986D-E88D87F8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95F-E1FB-489D-84E3-A0FFE046E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32CE-1C60-43CF-B8C4-1000CE54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5FC3-50B0-4D85-B273-AC38F30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C5B4-B5D5-4114-914B-16DB71D8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B20C-5A3F-42C2-B6D8-9A1115674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Identifying the Elements of A 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87600" y="4419720"/>
            <a:ext cx="3836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j0239131"/>
          <p:cNvPicPr/>
          <p:nvPr/>
        </p:nvPicPr>
        <p:blipFill>
          <a:blip r:embed="rId1"/>
          <a:stretch/>
        </p:blipFill>
        <p:spPr>
          <a:xfrm>
            <a:off x="6172200" y="3886200"/>
            <a:ext cx="2422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lot Diagra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0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47" name="Line 4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7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8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9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0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1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3124080" y="38098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914400" y="44956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410080" y="1905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248520" y="3581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934320" y="4724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4" descr="j0212919"/>
          <p:cNvPicPr/>
          <p:nvPr/>
        </p:nvPicPr>
        <p:blipFill>
          <a:blip r:embed="rId1"/>
          <a:stretch/>
        </p:blipFill>
        <p:spPr>
          <a:xfrm>
            <a:off x="0" y="4343400"/>
            <a:ext cx="12193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166 0.00764 L 0.225 0.00764 E">
                                      <p:cBhvr>
                                        <p:cTn id="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499 0.00764 L 0.35833 -0.12569 E">
                                      <p:cBhvr>
                                        <p:cTn id="10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33 -0.12569 L 0.52499 -0.42569 E">
                                      <p:cBhvr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5 -0.42569 L 0.59167 -0.20347 E">
                                      <p:cBhvr>
                                        <p:cTn id="18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9166 -0.20347 L 0.65833 -0.00347 E">
                                      <p:cBhvr>
                                        <p:cTn id="2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833 -0.00347 L 0.83333 -0.00347 E">
                                      <p:cBhvr>
                                        <p:cTn id="26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</a:rPr>
              <a:t>Plot 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(defini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ot is the organized pattern or sequence of events that make up a story.  Every plot is made up of a series of incidents that are related to one ano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j0238025"/>
          <p:cNvPicPr/>
          <p:nvPr/>
        </p:nvPicPr>
        <p:blipFill>
          <a:blip r:embed="rId1"/>
          <a:stretch/>
        </p:blipFill>
        <p:spPr>
          <a:xfrm>
            <a:off x="5943600" y="3276720"/>
            <a:ext cx="281448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1. Exposi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usually occurs at the beginning of a short story.  Here the characters are introduced.  We also learn about the setting of the story.  Most importantly, we are introduced to the main conflict (main proble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47"/>
          <p:cNvGrpSpPr/>
          <p:nvPr/>
        </p:nvGrpSpPr>
        <p:grpSpPr>
          <a:xfrm>
            <a:off x="1752480" y="3733920"/>
            <a:ext cx="5714640" cy="2514600"/>
            <a:chOff x="1752480" y="3733920"/>
            <a:chExt cx="5714640" cy="2514600"/>
          </a:xfrm>
        </p:grpSpPr>
        <p:sp>
          <p:nvSpPr>
            <p:cNvPr id="68" name="Line 48"/>
            <p:cNvSpPr/>
            <p:nvPr/>
          </p:nvSpPr>
          <p:spPr>
            <a:xfrm>
              <a:off x="1752480" y="6248520"/>
              <a:ext cx="166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49"/>
            <p:cNvSpPr/>
            <p:nvPr/>
          </p:nvSpPr>
          <p:spPr>
            <a:xfrm flipV="1">
              <a:off x="3419280" y="5695920"/>
              <a:ext cx="23796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50"/>
            <p:cNvSpPr/>
            <p:nvPr/>
          </p:nvSpPr>
          <p:spPr>
            <a:xfrm>
              <a:off x="3657600" y="5696280"/>
              <a:ext cx="11880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51"/>
            <p:cNvSpPr/>
            <p:nvPr/>
          </p:nvSpPr>
          <p:spPr>
            <a:xfrm flipV="1">
              <a:off x="3776400" y="5328000"/>
              <a:ext cx="29736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52"/>
            <p:cNvSpPr/>
            <p:nvPr/>
          </p:nvSpPr>
          <p:spPr>
            <a:xfrm>
              <a:off x="4074120" y="5328360"/>
              <a:ext cx="17856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53"/>
            <p:cNvSpPr/>
            <p:nvPr/>
          </p:nvSpPr>
          <p:spPr>
            <a:xfrm flipV="1">
              <a:off x="4252680" y="5082840"/>
              <a:ext cx="23796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4"/>
            <p:cNvSpPr/>
            <p:nvPr/>
          </p:nvSpPr>
          <p:spPr>
            <a:xfrm>
              <a:off x="4491000" y="5083200"/>
              <a:ext cx="11880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5"/>
            <p:cNvSpPr/>
            <p:nvPr/>
          </p:nvSpPr>
          <p:spPr>
            <a:xfrm flipV="1">
              <a:off x="4609800" y="3733920"/>
              <a:ext cx="107136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56"/>
            <p:cNvSpPr/>
            <p:nvPr/>
          </p:nvSpPr>
          <p:spPr>
            <a:xfrm>
              <a:off x="6336360" y="606456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Line 57"/>
          <p:cNvSpPr/>
          <p:nvPr/>
        </p:nvSpPr>
        <p:spPr>
          <a:xfrm>
            <a:off x="5715000" y="3733920"/>
            <a:ext cx="609480" cy="23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9"/>
          <p:cNvSpPr/>
          <p:nvPr/>
        </p:nvSpPr>
        <p:spPr>
          <a:xfrm>
            <a:off x="1752480" y="5867280"/>
            <a:ext cx="1676520" cy="685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3" descr="j0212919"/>
          <p:cNvPicPr/>
          <p:nvPr/>
        </p:nvPicPr>
        <p:blipFill>
          <a:blip r:embed="rId1"/>
          <a:stretch/>
        </p:blipFill>
        <p:spPr>
          <a:xfrm>
            <a:off x="304920" y="4876920"/>
            <a:ext cx="1207800" cy="1496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5"/>
          <p:cNvSpPr/>
          <p:nvPr/>
        </p:nvSpPr>
        <p:spPr>
          <a:xfrm>
            <a:off x="2286000" y="45720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77778E-006 -4.44444E-006 L 0.19999 -4.44444E-006 E">
                                      <p:cBhvr>
                                        <p:cTn id="32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2. Rising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s part of the story begins to develop the conflict(s).  A building of interest or suspense occ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1"/>
          <p:cNvGrpSpPr/>
          <p:nvPr/>
        </p:nvGrpSpPr>
        <p:grpSpPr>
          <a:xfrm>
            <a:off x="1219320" y="2971440"/>
            <a:ext cx="6705000" cy="3352680"/>
            <a:chOff x="1219320" y="2971440"/>
            <a:chExt cx="6705000" cy="3352680"/>
          </a:xfrm>
        </p:grpSpPr>
        <p:sp>
          <p:nvSpPr>
            <p:cNvPr id="84" name="Line 12"/>
            <p:cNvSpPr/>
            <p:nvPr/>
          </p:nvSpPr>
          <p:spPr>
            <a:xfrm>
              <a:off x="1219320" y="6324120"/>
              <a:ext cx="195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3"/>
            <p:cNvSpPr/>
            <p:nvPr/>
          </p:nvSpPr>
          <p:spPr>
            <a:xfrm flipV="1">
              <a:off x="3174840" y="5588280"/>
              <a:ext cx="279360" cy="73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4"/>
            <p:cNvSpPr/>
            <p:nvPr/>
          </p:nvSpPr>
          <p:spPr>
            <a:xfrm>
              <a:off x="3454560" y="5588280"/>
              <a:ext cx="139320" cy="32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5"/>
            <p:cNvSpPr/>
            <p:nvPr/>
          </p:nvSpPr>
          <p:spPr>
            <a:xfrm flipV="1">
              <a:off x="3594240" y="5097960"/>
              <a:ext cx="348840" cy="81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6"/>
            <p:cNvSpPr/>
            <p:nvPr/>
          </p:nvSpPr>
          <p:spPr>
            <a:xfrm>
              <a:off x="3943080" y="5097960"/>
              <a:ext cx="209520" cy="57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7"/>
            <p:cNvSpPr/>
            <p:nvPr/>
          </p:nvSpPr>
          <p:spPr>
            <a:xfrm flipV="1">
              <a:off x="4152600" y="4770720"/>
              <a:ext cx="279360" cy="8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8"/>
            <p:cNvSpPr/>
            <p:nvPr/>
          </p:nvSpPr>
          <p:spPr>
            <a:xfrm>
              <a:off x="4432320" y="4770720"/>
              <a:ext cx="139320" cy="57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9"/>
            <p:cNvSpPr/>
            <p:nvPr/>
          </p:nvSpPr>
          <p:spPr>
            <a:xfrm flipV="1">
              <a:off x="4572000" y="2971440"/>
              <a:ext cx="1257120" cy="23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0"/>
            <p:cNvSpPr/>
            <p:nvPr/>
          </p:nvSpPr>
          <p:spPr>
            <a:xfrm>
              <a:off x="6597720" y="6078960"/>
              <a:ext cx="132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Line 22"/>
          <p:cNvSpPr/>
          <p:nvPr/>
        </p:nvSpPr>
        <p:spPr>
          <a:xfrm>
            <a:off x="5791320" y="2971800"/>
            <a:ext cx="761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971800" y="4495680"/>
            <a:ext cx="2286000" cy="1752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7" descr="j0212919"/>
          <p:cNvPicPr/>
          <p:nvPr/>
        </p:nvPicPr>
        <p:blipFill>
          <a:blip r:embed="rId1"/>
          <a:stretch/>
        </p:blipFill>
        <p:spPr>
          <a:xfrm>
            <a:off x="1752480" y="4800600"/>
            <a:ext cx="120816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69 0.04653 L 0.19236 -0.13125 E">
                                      <p:cBhvr>
                                        <p:cTn id="38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3. Clima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turning point of the story. Usually the main character comes face to face with a conflict.  The main character will change in some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2"/>
          <p:cNvGrpSpPr/>
          <p:nvPr/>
        </p:nvGrpSpPr>
        <p:grpSpPr>
          <a:xfrm>
            <a:off x="609480" y="3809880"/>
            <a:ext cx="6781680" cy="2514600"/>
            <a:chOff x="609480" y="3809880"/>
            <a:chExt cx="6781680" cy="2514600"/>
          </a:xfrm>
        </p:grpSpPr>
        <p:sp>
          <p:nvSpPr>
            <p:cNvPr id="99" name="Line 13"/>
            <p:cNvSpPr/>
            <p:nvPr/>
          </p:nvSpPr>
          <p:spPr>
            <a:xfrm>
              <a:off x="609480" y="6324480"/>
              <a:ext cx="197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V="1">
              <a:off x="2587680" y="5771880"/>
              <a:ext cx="282600" cy="55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>
              <a:off x="2870280" y="5772240"/>
              <a:ext cx="141120" cy="2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V="1">
              <a:off x="3011400" y="5403960"/>
              <a:ext cx="352800" cy="6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3364560" y="5404320"/>
              <a:ext cx="21168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3576600" y="5158800"/>
              <a:ext cx="282600" cy="67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859200" y="5159160"/>
              <a:ext cx="141120" cy="42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 flipV="1">
              <a:off x="4000320" y="3809880"/>
              <a:ext cx="1271520" cy="17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6049440" y="6140520"/>
              <a:ext cx="13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Line 22"/>
          <p:cNvSpPr/>
          <p:nvPr/>
        </p:nvSpPr>
        <p:spPr>
          <a:xfrm>
            <a:off x="5257800" y="3809880"/>
            <a:ext cx="83808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267080" y="3657600"/>
            <a:ext cx="1905120" cy="1295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j0212919"/>
          <p:cNvPicPr/>
          <p:nvPr/>
        </p:nvPicPr>
        <p:blipFill>
          <a:blip r:embed="rId1"/>
          <a:stretch/>
        </p:blipFill>
        <p:spPr>
          <a:xfrm>
            <a:off x="3200400" y="4267080"/>
            <a:ext cx="108576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0.1243 L 0.19063 -0.20903 E"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4. Falling A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loose ends of the plot are tied up.  The conflict(s) and climax are taken care o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3"/>
          <p:cNvGrpSpPr/>
          <p:nvPr/>
        </p:nvGrpSpPr>
        <p:grpSpPr>
          <a:xfrm>
            <a:off x="1828800" y="3124080"/>
            <a:ext cx="6095520" cy="3200040"/>
            <a:chOff x="1828800" y="3124080"/>
            <a:chExt cx="6095520" cy="3200040"/>
          </a:xfrm>
        </p:grpSpPr>
        <p:sp>
          <p:nvSpPr>
            <p:cNvPr id="114" name="Line 14"/>
            <p:cNvSpPr/>
            <p:nvPr/>
          </p:nvSpPr>
          <p:spPr>
            <a:xfrm>
              <a:off x="1828800" y="6324120"/>
              <a:ext cx="17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5"/>
            <p:cNvSpPr/>
            <p:nvPr/>
          </p:nvSpPr>
          <p:spPr>
            <a:xfrm flipV="1">
              <a:off x="3606840" y="5621400"/>
              <a:ext cx="253800" cy="70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6"/>
            <p:cNvSpPr/>
            <p:nvPr/>
          </p:nvSpPr>
          <p:spPr>
            <a:xfrm>
              <a:off x="3860640" y="5621760"/>
              <a:ext cx="126720" cy="31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7"/>
            <p:cNvSpPr/>
            <p:nvPr/>
          </p:nvSpPr>
          <p:spPr>
            <a:xfrm flipV="1">
              <a:off x="3987720" y="5153040"/>
              <a:ext cx="317160" cy="78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8"/>
            <p:cNvSpPr/>
            <p:nvPr/>
          </p:nvSpPr>
          <p:spPr>
            <a:xfrm>
              <a:off x="4305240" y="5153400"/>
              <a:ext cx="190440" cy="54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9"/>
            <p:cNvSpPr/>
            <p:nvPr/>
          </p:nvSpPr>
          <p:spPr>
            <a:xfrm flipV="1">
              <a:off x="4495680" y="4841280"/>
              <a:ext cx="253800" cy="85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0"/>
            <p:cNvSpPr/>
            <p:nvPr/>
          </p:nvSpPr>
          <p:spPr>
            <a:xfrm>
              <a:off x="4749840" y="4841280"/>
              <a:ext cx="126720" cy="54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1"/>
            <p:cNvSpPr/>
            <p:nvPr/>
          </p:nvSpPr>
          <p:spPr>
            <a:xfrm flipV="1">
              <a:off x="4876560" y="3124080"/>
              <a:ext cx="1142640" cy="22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2"/>
            <p:cNvSpPr/>
            <p:nvPr/>
          </p:nvSpPr>
          <p:spPr>
            <a:xfrm>
              <a:off x="6718320" y="60901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23"/>
          <p:cNvSpPr/>
          <p:nvPr/>
        </p:nvSpPr>
        <p:spPr>
          <a:xfrm>
            <a:off x="6019920" y="3200400"/>
            <a:ext cx="68580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5638680" y="4343400"/>
            <a:ext cx="2438640" cy="121932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5" descr="j0212919"/>
          <p:cNvPicPr/>
          <p:nvPr/>
        </p:nvPicPr>
        <p:blipFill>
          <a:blip r:embed="rId1"/>
          <a:stretch/>
        </p:blipFill>
        <p:spPr>
          <a:xfrm>
            <a:off x="5486400" y="1905120"/>
            <a:ext cx="101592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77 0.06389 L 0.12777 0.30834 E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5. Res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tory comes to a reasonable end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609480" y="2437920"/>
            <a:ext cx="7315200" cy="3124800"/>
            <a:chOff x="609480" y="2437920"/>
            <a:chExt cx="7315200" cy="3124800"/>
          </a:xfrm>
        </p:grpSpPr>
        <p:sp>
          <p:nvSpPr>
            <p:cNvPr id="129" name="Line 5"/>
            <p:cNvSpPr/>
            <p:nvPr/>
          </p:nvSpPr>
          <p:spPr>
            <a:xfrm>
              <a:off x="609480" y="556272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 flipV="1">
              <a:off x="2743200" y="4876560"/>
              <a:ext cx="30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3048120" y="4876920"/>
              <a:ext cx="1522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V="1">
              <a:off x="3200400" y="4419720"/>
              <a:ext cx="3808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3581280" y="4419720"/>
              <a:ext cx="228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V="1">
              <a:off x="3809880" y="4114800"/>
              <a:ext cx="3049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>
              <a:off x="4114800" y="4114800"/>
              <a:ext cx="1522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 flipV="1">
              <a:off x="4267080" y="2437920"/>
              <a:ext cx="13716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6477120" y="5334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4"/>
          <p:cNvSpPr/>
          <p:nvPr/>
        </p:nvSpPr>
        <p:spPr>
          <a:xfrm>
            <a:off x="5638680" y="2438280"/>
            <a:ext cx="83844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6248520" y="4876920"/>
            <a:ext cx="2286000" cy="1143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6" descr="j0212919"/>
          <p:cNvPicPr/>
          <p:nvPr/>
        </p:nvPicPr>
        <p:blipFill>
          <a:blip r:embed="rId1"/>
          <a:stretch/>
        </p:blipFill>
        <p:spPr>
          <a:xfrm>
            <a:off x="6248520" y="3733920"/>
            <a:ext cx="10778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86 0.00277 L 0.21614 0.00277 E">
                                      <p:cBhvr>
                                        <p:cTn id="56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143000" y="1371600"/>
            <a:ext cx="6705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x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is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Falling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962520" y="1752480"/>
            <a:ext cx="1523880" cy="381240"/>
          </a:xfrm>
          <a:prstGeom prst="rightArrow">
            <a:avLst>
              <a:gd name="adj1" fmla="val 50000"/>
              <a:gd name="adj2" fmla="val 999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3657600" y="3657600"/>
            <a:ext cx="1523880" cy="380880"/>
          </a:xfrm>
          <a:prstGeom prst="rightArrow">
            <a:avLst>
              <a:gd name="adj1" fmla="val 50000"/>
              <a:gd name="adj2" fmla="val 10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4495680" y="55627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867280" y="1523880"/>
            <a:ext cx="221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eginning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5562720" y="32767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ddle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32448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nd of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7T15:30:26Z</dcterms:created>
  <dc:creator>Challenger Middle School</dc:creator>
  <dc:description/>
  <dc:language>en-US</dc:language>
  <cp:lastModifiedBy> </cp:lastModifiedBy>
  <cp:lastPrinted>2013-09-03T14:13:55Z</cp:lastPrinted>
  <dcterms:modified xsi:type="dcterms:W3CDTF">2013-09-03T14:15:20Z</dcterms:modified>
  <cp:revision>4</cp:revision>
  <dc:subject/>
  <dc:title>Identifying the Elements of A Plot Diagram</dc:title>
</cp:coreProperties>
</file>